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521-1921-46AA-AFE2-8B71AEA9E7F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3A6-8199-4EB9-930E-19F72CD99FB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EC04-B161-47D4-8F49-3D39F397428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C45C-7635-42AC-8F0E-55B26CC29A7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FED-0695-458B-9E08-2A8A82C7BD7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FA9-ACAF-4797-92E6-D697CEA8368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AB7-8DB0-426E-BCDD-E186B0E2C02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2CD-184E-46D1-A0DA-60AC6D8FC32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24D-F114-47D5-8871-87E6C6AB45D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6778-7A4F-4386-B937-CE936843DAE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013-E063-4BCB-9E94-516E9FDBCEA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251-E9E7-435A-9E7D-50C16AD1A7A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315-1990-4FD2-B1EF-9541470275F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3FA-DCF8-457D-92EC-372D394AEF6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060-413F-435B-859F-93375407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0EE-B9CD-4AF7-A53C-B9245D4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BE6-B572-4BC4-81C2-35E5D8C4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512-6EF0-47EA-A5D8-E86C9E0F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72E-1DC0-45B3-A41C-CF0B650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C37-4453-4945-BC2C-9CBE5A87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777-F06A-4349-86FE-AD6E9BEB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825-A600-436E-8B9A-95D53E60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77B-EC19-4C4F-850D-708AF9B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976-92DF-4239-BC91-44CD816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4A-3A17-4449-81F7-3C83D2B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3C8-0CC6-40C6-8ADE-1A35AAA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931-78A3-4F16-AEF8-F66302953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 ΘΑΛΑΣΣ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 Αιμοσφαιρινοπάθειας 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γενική εικόνα είναι ήπ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ρκεια επιβίωσης φυσιολογ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ικίλλου βαθμού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ιδήρωση με πιθανές εκδηλώσεις από καρδι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ιακά ευρήματ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εριφερικό αί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ασεόφιλη στίξ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ΔΕΚ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Ηλεκροφόρηση Αιμοσφαιρίνης και Η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L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2-40%, συνήθως 8-15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ημαντικό εύρη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χαμ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συνήθως 1-3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το υπόλοιπο ποσοστ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εύρεσ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5%) σε μερικούς ασθενεί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Θεραπεί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τους περισσότερους ασθενεί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δεν είναι απαραίτητη καμία θεραπε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ε ορισμένους απαιτείται μετάγγιση αί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4. ΑΙΜΟΣΦΑΙΡΙΝΟΠΑΘΕΙΑ </a:t>
            </a:r>
            <a:r>
              <a:rPr b="1" lang="en-US" sz="2800" spc="-1" strike="noStrike">
                <a:solidFill>
                  <a:srgbClr val="009999"/>
                </a:solidFill>
                <a:latin typeface="Calibri"/>
              </a:rPr>
              <a:t>Bart’s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ΜΒΡΥΪΚΟΣ ΥΔΡΩΠΑΣ ή Μείζων α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φείλεται στην ύπαρξη </a:t>
            </a:r>
            <a:r>
              <a:rPr b="1" lang="el-GR" sz="3000" spc="-1" strike="noStrike">
                <a:solidFill>
                  <a:srgbClr val="1f497d"/>
                </a:solidFill>
                <a:latin typeface="Calibri"/>
              </a:rPr>
              <a:t>δύο μεταλλάξεων α</a:t>
            </a:r>
            <a:r>
              <a:rPr b="1" lang="el-GR" sz="3000" spc="-1" strike="noStrike" baseline="30000">
                <a:solidFill>
                  <a:srgbClr val="1f497d"/>
                </a:solidFill>
                <a:latin typeface="Calibri"/>
              </a:rPr>
              <a:t>0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→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λοκληρωτική απουσία της α-αιμοσφαιρίν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Γονότυπος (--/-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Έλλειψη τεσσάρων α-γονιδίων (α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1f497d"/>
                </a:solidFill>
                <a:uFillTx/>
                <a:latin typeface="Calibri"/>
              </a:rPr>
              <a:t>Μη συμβατή με τη ζωή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, τα έμβρυα πεθαίνουν πριν τη γέννηση τους ή αμέσως μετά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(καρδιακή ανεπάρκεια, ατελής οργανογένε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χεδόν όλη η Αιμοσφαιρίνη είνα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(γ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Μικρό ποσοστό Αιμοσφαιρίνη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Portland (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ζ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γ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ι α-θαλασσαιμίες είναι κληρονομικά νοσήματα που χαρακτηρίζονται από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ανεπαρκή παραγωγή ή πλήρη έλλειψη της α σφαιρίνης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και αυξημένη παραγωγή των β αλύσω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Είναι περισσότερο συχνές στην Αφρική, τη Μέση Ανατολή, την Ινδία, τη Νοτιοανατολική Ασία, τη Νότια Κίνα, και σποραδικά στη Μεσόγει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Το έλλειμμα της α-αλυσίδας έχει σαν αποτέλεσμα το πλεόνασμα των β-αλυσίδων, οι οποίες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θροίζονται μέσα στα κύττα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άσσουν την πλαστικότητα του ερυθροκυττά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τακρατούνται στο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Φαγοκυτταρρ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Εργαστηριακά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τα αθροίσματα των β-αλυσίδων γίνονται ορατά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πώαση των ερυθρών με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aNO</a:t>
            </a:r>
            <a:r>
              <a:rPr b="0" lang="en-US" sz="26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Χρώση με ιώδες του μεθυλί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ΥΡΙΕΣ ΔΙΑΦΟΡΕΣ ΤΩΝ α-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΄ΑΠΌ ΤΙΣ β- ΜΕΣ. ΑΝ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Γενετ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Για τις α-αλυσίδες, υπάρχουν 4 γονίδια (αντί 2) για τη σύνθεσή τους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αα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αθοφυσιολογ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α τετραμερή που δημιουργούνται από την περίσσεια των β-αλυσίδων (β4) είναι περισσότερο διαλυτά από τα α4 και δεν προκαλούν εκσεσημασμένη δυσερυθροποίηση όπως στις 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ή διαφορά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Έχουν πολύ ευρύ κλινικό φάσμα (από ασυμπτωματικές ως ασύμβατες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ΕΣ ΜΟΡΦΕΣ α-ΘΑΛΑΣΣ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α-2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ήπια ή σιωπηλός φορέ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ες-1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βαρειά ετερόζυγη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ινοπάθεια Η (ενδιάμεση α-θαλασσ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ζων α-θαλασσαιμία - Αιμοσφαιρινοπάθεια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rt’s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ή εμβρυϊκός ύδωπας (ασύμβατη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1.  α-Θαλασσαιμία-2  (σιωπηλός φορέα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ενός α-γονιδίο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γονότυπος α-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συνοδεύεται από αιματολογικές διαταραχές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Εργαστηριακά ευρήμα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ατολογική εικόνα και μορφολογία ερυθρών φυσιολογική (σπάνια αν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φυσιολογικοί ή ελαφρά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βρυϊκή αιμοσφαιρίνη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)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ίνη φυσιολογικέ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γνωση μπαίνει με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</a:rPr>
              <a:t>2.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-θαλασσαιμία-1  (βαρειά ετερόζυγ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ή μεταλλάξεις δύο α-γονιδίων(α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αα/-- ή  α-/α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ασυμπτωματικο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ργαστηρια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ο έλλειμμα των α-αλυσίδων δεν καλύπτεται από  την υπερλειτουργία  των δύο υγιών γονιδίων και συνεπώς παρουσιάζει εργαστηριακά ευρήματ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ργαστηριακά ευρήματα α-Θαλασσαιμίας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θαλασσαιμικά ευρήματ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ύξηση αριθμού ερυθροκυττάρ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CV, MCH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κφ ή ↓,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κ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ίχνευση ελεύθερων β-αλυσίδων μετά επώαση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ρώση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 (ιώδες του μεθυλί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Διάγνωση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γίνεται με μοριακές τεχνικέ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3.  Αιμοσφαιρινοπάθεια Η  </a:t>
            </a:r>
            <a:br>
              <a:rPr sz="3600"/>
            </a:b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(ενδιάμεση α-θαλασσαιμία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Έλλειψη τριών α-γονιδίων (α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Γονότυπος (α-/-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μικρή παραγωγή α-αλύσων - μεγάλη περίσσεια β-αλύσ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Οι β-αλυσίδες σχηματίζουν τετραμερή (β4) που είναι η αιμοσφαιρίνη Η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ιμοσφαιρίνη Η έχει υψηλή δεσμευτική ικανότητα οξυγόνου, αλλά χαμηλή απόδοση οξυγόνου στους ιστού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κλινική εικόνα ποικίλλε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ερίσσεια β-αλυσίδων           κατακρήμνιση εντός των ερυθρών          φαγοκυττάρωση στο σπλήνα(εξωαγγειακή αιμόλυση)          διόγκωση του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4124160" y="563580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2438280" y="6400800"/>
            <a:ext cx="381240" cy="76320"/>
          </a:xfrm>
          <a:prstGeom prst="rightArrow">
            <a:avLst>
              <a:gd name="adj1" fmla="val 50000"/>
              <a:gd name="adj2" fmla="val 54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2209680" y="601992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31:10Z</dcterms:modified>
  <cp:revision>737</cp:revision>
  <dc:subject/>
  <dc:title>Slide 1</dc:title>
</cp:coreProperties>
</file>